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77120" y="9524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2828880" cy="33814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80880" y="380880"/>
            <a:ext cx="7010640" cy="906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3080" y="549360"/>
            <a:ext cx="7772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6360" y="607680"/>
            <a:ext cx="36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2720" y="6049800"/>
            <a:ext cx="52250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EXERCISE # 7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Accounts Payable Vou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2680" y="9601200"/>
            <a:ext cx="79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-1440" y="0"/>
          <a:ext cx="7765920" cy="982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982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89560" y="548640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1760" y="7010280"/>
            <a:ext cx="1089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ARY THO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4160" y="883908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89000" y="9601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8480" y="1225440"/>
            <a:ext cx="1725480" cy="444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10160" y="1189080"/>
            <a:ext cx="203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 MAR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560" y="95122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20720" y="716040"/>
            <a:ext cx="20494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4920" y="716040"/>
            <a:ext cx="10436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5440" y="1135080"/>
            <a:ext cx="52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rlisle Sheet Metal Outlet, 1030 West 53d Street, Hagan, GA  304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4640" y="1554120"/>
            <a:ext cx="1537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17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" y="2141640"/>
            <a:ext cx="67035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NO.            SUPPLIES/SERVICES              QTY         UNIT       PRICE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63600" y="1973160"/>
            <a:ext cx="58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9560" y="2354400"/>
            <a:ext cx="715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7600" y="2643120"/>
            <a:ext cx="65941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            Sheet Metal, 20”  x 10”                  500            EA           10.00      $5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2            Rivetter, Standard, Electric              15            EA         245.95      $3,68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3            Rivettes                                            50            BX             8.50      $   42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TAL:    $9,114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62800" y="937404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8480" y="93726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494440" y="7531200"/>
            <a:ext cx="74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APR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98320" y="7683480"/>
            <a:ext cx="84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12, P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09040" y="7074000"/>
            <a:ext cx="74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APR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66760" y="9512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1960" y="7531200"/>
            <a:ext cx="96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BILL CHAN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000" y="7086600"/>
            <a:ext cx="94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PAUL ELLI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9840" y="5721480"/>
            <a:ext cx="1663920" cy="901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7720" y="5900760"/>
            <a:ext cx="1466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355680"/>
            <a:ext cx="4619520" cy="33112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3600" y="309600"/>
            <a:ext cx="103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62680" y="609480"/>
            <a:ext cx="232884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84960" bIns="84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10666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84960" bIns="-84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13716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84960" bIns="-84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68800" y="1674720"/>
            <a:ext cx="2322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83160" bIns="-83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34600" y="53352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:  198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90400" y="762120"/>
            <a:ext cx="1060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51880" y="9907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 APRIL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14960" y="1371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:  2/10, N/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38920" y="1600200"/>
            <a:ext cx="1105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3840" y="18111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17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10280" y="231444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7280" y="450720"/>
            <a:ext cx="3433320" cy="82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LISLE SHEET METAL OUT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30 WEST 53D 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GAN, GA  30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34560" y="1623960"/>
            <a:ext cx="2488320" cy="891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120" y="190188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476600" y="2341080"/>
            <a:ext cx="338040" cy="348840"/>
            <a:chOff x="4476600" y="2341080"/>
            <a:chExt cx="338040" cy="348840"/>
          </a:xfrm>
        </p:grpSpPr>
        <p:sp>
          <p:nvSpPr>
            <p:cNvPr id="288" name=""/>
            <p:cNvSpPr/>
            <p:nvPr/>
          </p:nvSpPr>
          <p:spPr>
            <a:xfrm flipV="1">
              <a:off x="4814640" y="2341080"/>
              <a:ext cx="0" cy="3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76600" y="268020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77720" y="2341080"/>
            <a:ext cx="360000" cy="348840"/>
            <a:chOff x="477720" y="2341080"/>
            <a:chExt cx="360000" cy="348840"/>
          </a:xfrm>
        </p:grpSpPr>
        <p:sp>
          <p:nvSpPr>
            <p:cNvPr id="291" name=""/>
            <p:cNvSpPr/>
            <p:nvPr/>
          </p:nvSpPr>
          <p:spPr>
            <a:xfrm flipV="1">
              <a:off x="484920" y="2341080"/>
              <a:ext cx="0" cy="3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7720" y="268020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476600" y="1522440"/>
            <a:ext cx="338040" cy="331560"/>
            <a:chOff x="4476600" y="1522440"/>
            <a:chExt cx="338040" cy="331560"/>
          </a:xfrm>
        </p:grpSpPr>
        <p:sp>
          <p:nvSpPr>
            <p:cNvPr id="294" name=""/>
            <p:cNvSpPr/>
            <p:nvPr/>
          </p:nvSpPr>
          <p:spPr>
            <a:xfrm>
              <a:off x="4814640" y="1532880"/>
              <a:ext cx="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76600" y="152244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36000" y="2800440"/>
            <a:ext cx="3274560" cy="6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, ENGINEERING &amp; HOU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DG 611B, ATTN:  MR. BUR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960" y="2948040"/>
            <a:ext cx="586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4275000"/>
            <a:ext cx="741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4667400"/>
            <a:ext cx="741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080" y="4325760"/>
            <a:ext cx="743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8240" y="4797360"/>
            <a:ext cx="31500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16640" y="4822920"/>
            <a:ext cx="2022120" cy="297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EET METAL, 20”X10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57320" y="4797360"/>
            <a:ext cx="47376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56880" y="4797360"/>
            <a:ext cx="70992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8240" y="4797360"/>
            <a:ext cx="110448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840" y="5268960"/>
            <a:ext cx="282600" cy="3157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840" y="5737320"/>
            <a:ext cx="282600" cy="3157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0840" y="6219720"/>
            <a:ext cx="282600" cy="316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0840" y="6711840"/>
            <a:ext cx="282600" cy="317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25640" y="5268960"/>
            <a:ext cx="2144520" cy="3254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25640" y="5726160"/>
            <a:ext cx="2144520" cy="32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25640" y="6188040"/>
            <a:ext cx="2144520" cy="327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640" y="6691320"/>
            <a:ext cx="2144520" cy="32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02000" y="480852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5267160"/>
            <a:ext cx="93492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02000" y="5726160"/>
            <a:ext cx="93492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2000" y="618804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02000" y="669132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05040" y="4830840"/>
            <a:ext cx="4766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70280" y="5267160"/>
            <a:ext cx="471600" cy="308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70280" y="572616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70280" y="618804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70280" y="669132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43480" y="5267160"/>
            <a:ext cx="97488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43480" y="5726160"/>
            <a:ext cx="96372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43480" y="6188040"/>
            <a:ext cx="95724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43480" y="6691320"/>
            <a:ext cx="95724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80000" y="5267160"/>
            <a:ext cx="107640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80000" y="5726160"/>
            <a:ext cx="107640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6188040"/>
            <a:ext cx="107604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0000" y="6691320"/>
            <a:ext cx="107640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3640" y="4281480"/>
            <a:ext cx="0" cy="28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426708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21440" y="4280040"/>
            <a:ext cx="2880" cy="28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91440" y="4281480"/>
            <a:ext cx="0" cy="286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0240" y="4281480"/>
            <a:ext cx="6480" cy="286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3680" y="7175520"/>
            <a:ext cx="738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7480" y="7299360"/>
            <a:ext cx="188568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7299360"/>
            <a:ext cx="119376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33840" y="7280280"/>
            <a:ext cx="139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01880" y="7280280"/>
            <a:ext cx="1104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4,837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62800" y="944892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77720" y="1525680"/>
            <a:ext cx="360000" cy="324720"/>
            <a:chOff x="477720" y="1525680"/>
            <a:chExt cx="360000" cy="324720"/>
          </a:xfrm>
        </p:grpSpPr>
        <p:sp>
          <p:nvSpPr>
            <p:cNvPr id="344" name=""/>
            <p:cNvSpPr/>
            <p:nvPr/>
          </p:nvSpPr>
          <p:spPr>
            <a:xfrm>
              <a:off x="484920" y="152892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7720" y="152568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29120" y="5261040"/>
            <a:ext cx="315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15560" y="5300640"/>
            <a:ext cx="21135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VETTER, STAN. ELE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1480" y="5261040"/>
            <a:ext cx="42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6160" y="5261040"/>
            <a:ext cx="473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66520" y="5261040"/>
            <a:ext cx="822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9.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38240" y="5261040"/>
            <a:ext cx="1104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,749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9120" y="5745240"/>
            <a:ext cx="315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14120" y="5778360"/>
            <a:ext cx="10069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VET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70560" y="5745240"/>
            <a:ext cx="428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67040" y="5745240"/>
            <a:ext cx="473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10960" y="5745240"/>
            <a:ext cx="596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36800" y="5745240"/>
            <a:ext cx="1104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    88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75440" y="2521080"/>
            <a:ext cx="2230200" cy="11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1000" y="2693880"/>
            <a:ext cx="1921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 APR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361120" y="5357520"/>
            <a:ext cx="84924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570720" y="5273280"/>
            <a:ext cx="9349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70720" y="5776920"/>
            <a:ext cx="9349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446880" y="7314840"/>
            <a:ext cx="102060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02520" y="5060880"/>
            <a:ext cx="2240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5.9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$3,689.25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26440" y="5506920"/>
            <a:ext cx="110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.0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37600" y="7589880"/>
            <a:ext cx="996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774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0"/>
          <a:ext cx="7763040" cy="982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982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89000" y="9524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31480" y="37972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837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840" y="51688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837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84480" y="5334120"/>
            <a:ext cx="58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63.5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2200" y="5334120"/>
            <a:ext cx="47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76760" y="5486400"/>
            <a:ext cx="153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 ERROR ON IN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7880" y="5638680"/>
            <a:ext cx="49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1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5680" y="5638680"/>
            <a:ext cx="1318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7 DAYS LATE @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2800" y="593100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815.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9920" y="585468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185920" y="631800"/>
            <a:ext cx="2927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CE/PROGRESS PAY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6960" y="1303200"/>
            <a:ext cx="5844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21880" y="2057400"/>
            <a:ext cx="33296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 DD  1155, Contract (Advance Paym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 SF 33, Contract (Progress Paym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 Vendors’ Invo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 Certificate of Perform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800" y="3649680"/>
            <a:ext cx="6145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QUIREMENT:  You must prepare the payment vouchers for the advance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gress payments based on the supporting documents listed above, then up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lls Register Car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7120" y="937404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8480" y="93726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776304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789360" y="1447920"/>
            <a:ext cx="728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 JA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00120" y="762012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89000" y="9588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47400" y="74674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2680" y="1835280"/>
            <a:ext cx="1593720" cy="520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36880" y="1833480"/>
            <a:ext cx="1878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 JA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69320" y="510552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29960" y="830592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9480" y="89154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48680" y="7238880"/>
            <a:ext cx="2033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 DUE DATE:  2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02920" y="8763120"/>
            <a:ext cx="1545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01800" y="8445600"/>
            <a:ext cx="1432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61160" y="9664560"/>
            <a:ext cx="64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52440" y="5931000"/>
            <a:ext cx="259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   MO               $200.00          $2,400.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87840" y="8978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4240" y="9601200"/>
            <a:ext cx="566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578480" y="657360"/>
            <a:ext cx="26542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680" y="415800"/>
            <a:ext cx="2444760" cy="6364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ICROFILMS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O. BOX 42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VER, COLORADO  802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4080" y="422280"/>
            <a:ext cx="151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23840" y="692280"/>
            <a:ext cx="69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7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74800" y="1031760"/>
            <a:ext cx="58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45640" y="1606680"/>
            <a:ext cx="143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39880" y="219852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24480" y="2433600"/>
            <a:ext cx="2690640" cy="520560"/>
            <a:chOff x="4524480" y="2433600"/>
            <a:chExt cx="2690640" cy="520560"/>
          </a:xfrm>
        </p:grpSpPr>
        <p:sp>
          <p:nvSpPr>
            <p:cNvPr id="413" name=""/>
            <p:cNvSpPr/>
            <p:nvPr/>
          </p:nvSpPr>
          <p:spPr>
            <a:xfrm>
              <a:off x="4560840" y="2433600"/>
              <a:ext cx="2654280" cy="5205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4480" y="2468520"/>
              <a:ext cx="2624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ders will be effective for th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dressee upon receipt of pay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12960" y="1835280"/>
            <a:ext cx="2702160" cy="306360"/>
            <a:chOff x="4512960" y="1835280"/>
            <a:chExt cx="2702160" cy="306360"/>
          </a:xfrm>
        </p:grpSpPr>
        <p:sp>
          <p:nvSpPr>
            <p:cNvPr id="416" name=""/>
            <p:cNvSpPr/>
            <p:nvPr/>
          </p:nvSpPr>
          <p:spPr>
            <a:xfrm>
              <a:off x="4560840" y="1835280"/>
              <a:ext cx="2654280" cy="291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2960" y="1870200"/>
              <a:ext cx="1496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BT15-**-M-52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514400" y="1249200"/>
            <a:ext cx="2718360" cy="306360"/>
            <a:chOff x="4514400" y="1249200"/>
            <a:chExt cx="2718360" cy="306360"/>
          </a:xfrm>
        </p:grpSpPr>
        <p:sp>
          <p:nvSpPr>
            <p:cNvPr id="419" name=""/>
            <p:cNvSpPr/>
            <p:nvPr/>
          </p:nvSpPr>
          <p:spPr>
            <a:xfrm>
              <a:off x="4578480" y="1249200"/>
              <a:ext cx="2654280" cy="2923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14400" y="128412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 JUNE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33960" y="1312920"/>
            <a:ext cx="89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1040" y="1635120"/>
            <a:ext cx="2316600" cy="6364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7560" y="2577960"/>
            <a:ext cx="1896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IOD OF SUBSCRIPT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33680" y="2538360"/>
            <a:ext cx="1327320" cy="271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 ** - JUL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5960" y="4044960"/>
            <a:ext cx="6678720" cy="223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0640" y="4430880"/>
            <a:ext cx="6674040" cy="2235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4520" y="4816440"/>
            <a:ext cx="6684840" cy="223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2440" y="3587760"/>
            <a:ext cx="666576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03800" y="5249880"/>
            <a:ext cx="2095560" cy="166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0560" y="3657600"/>
            <a:ext cx="59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                          DELIVERY SCHEDULE                       TOTA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2440" y="3975120"/>
            <a:ext cx="6665760" cy="1131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5960" y="4348080"/>
            <a:ext cx="666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5320" y="4738680"/>
            <a:ext cx="666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8560" y="5170320"/>
            <a:ext cx="6666120" cy="3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4027320"/>
            <a:ext cx="219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 Times Microfich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9920" y="4027320"/>
            <a:ext cx="220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sue per Month @ $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18760" y="4027320"/>
            <a:ext cx="86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65960" y="522288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Due This B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18760" y="5222880"/>
            <a:ext cx="86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3587760"/>
            <a:ext cx="792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32000" y="3975120"/>
            <a:ext cx="0" cy="11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4120" y="3587760"/>
            <a:ext cx="792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560" y="3975120"/>
            <a:ext cx="0" cy="11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89360" y="62136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93920" y="9296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9360" y="6559560"/>
            <a:ext cx="1670040" cy="749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2440" y="6662880"/>
            <a:ext cx="1825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76800" y="7327800"/>
            <a:ext cx="94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+ 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33680" y="7585200"/>
            <a:ext cx="2345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JUL **  ADVANCE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92836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-1440" y="0"/>
          <a:ext cx="7765920" cy="982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982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6608880" y="5486400"/>
            <a:ext cx="60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87040" y="7010280"/>
            <a:ext cx="1031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TIM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71520" y="883908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89000" y="9448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5840" y="1149480"/>
            <a:ext cx="1816200" cy="520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51560" y="117648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848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6520" y="303120"/>
            <a:ext cx="6136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MROD CONSTRUCTION CO. P.O. BOX 11123 RICHMOND HILL, GA  313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BT15-**-C-01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4240" y="1058760"/>
            <a:ext cx="72064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                        SUPPLY/SERVICE                      QTY             U/I            U/P   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3600" y="1276200"/>
            <a:ext cx="758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8760" y="1393920"/>
            <a:ext cx="568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87360" y="1393920"/>
            <a:ext cx="29545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novation of quarters 500-600, f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eriod 1 Aug-30 Sep **.  Includ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inting, general repairs, plumb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eaning, and building suppli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Progress Payment Authoriz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37320" y="139392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35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88440" y="2651040"/>
            <a:ext cx="35125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1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IVERIES:  F.O.B.  Destin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TO:  Director, Engineering and Hou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dg 100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7080" y="4327560"/>
            <a:ext cx="55242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2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YMENT TERMS:  Progress payments will be made upon receipt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ificate of performance for the percentage of work completed, less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tained amount as applicable.  The invoice must contain the following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37280" y="5416560"/>
            <a:ext cx="4051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)  Remit to address (if other than the address giv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)  The contract numb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)  Date of invo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)  Descri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)  Ter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)  Extension/Foo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)  Percentage of comple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4200" y="7093080"/>
            <a:ext cx="577116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3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ACT TYPE:  This  is a fixed price contract.  The unit price will rem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offer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56400" y="946476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8480" y="944892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12600" y="471600"/>
            <a:ext cx="22597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TUDENT INSTRU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8040" y="974880"/>
            <a:ext cx="13269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BJECTIVE: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7640" y="974880"/>
            <a:ext cx="599976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practical exercise measures your ability to prepare Accou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yable vouchers. There are several situations regarding the Prompt Pay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. You must determine payment due dates, compute discounts and calcul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est penalty payments as applicab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2640" y="2147760"/>
            <a:ext cx="1144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TUATIO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88560" y="2133720"/>
            <a:ext cx="5917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ou are a voucher examiner assigned to the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 at Fort Stewart, GA. You are responsible for receiving and process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ounts Payable documents.  The Disbursing Officer is W. C. Cory, LTC, F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1440" y="3139920"/>
            <a:ext cx="2342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RAL INSTRUCTION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6520" y="3503520"/>
            <a:ext cx="64202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Read all student notes very carefully. There are Special instructions on page 2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will assist you in completing this exercis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You will do all required written work in this booklet. Complete the Bill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ister Cards and the payment vouchers that apply to the documents in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pplement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You will have 6 class periods to complete this practical exercis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You may not communicate with other student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  Upon completion of this practical exercise, see the instructor for fur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1560" y="5402160"/>
            <a:ext cx="11808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0640" y="5713560"/>
            <a:ext cx="5798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our answers must be in accordance with DFAS-IN Regulation 37-1 and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mpt Payment Ac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6492960"/>
            <a:ext cx="38509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TERIALS REQUIRE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 Handouts 701 and 70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 Supplement and Payment Due Date She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 Calcul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 Penc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 Student notes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5400" y="9464760"/>
            <a:ext cx="232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095880" y="5035680"/>
            <a:ext cx="13687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73760" y="3611520"/>
            <a:ext cx="24937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30600" y="3611520"/>
            <a:ext cx="200016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5760" y="3613320"/>
            <a:ext cx="2405160" cy="3204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847800"/>
            <a:ext cx="7238880" cy="1998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949320"/>
            <a:ext cx="7086600" cy="1797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8320" y="1647720"/>
            <a:ext cx="8150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82080" y="1397160"/>
            <a:ext cx="3579840" cy="809280"/>
            <a:chOff x="982080" y="1397160"/>
            <a:chExt cx="3579840" cy="809280"/>
          </a:xfrm>
        </p:grpSpPr>
        <p:sp>
          <p:nvSpPr>
            <p:cNvPr id="480" name=""/>
            <p:cNvSpPr/>
            <p:nvPr/>
          </p:nvSpPr>
          <p:spPr>
            <a:xfrm>
              <a:off x="1014480" y="1397160"/>
              <a:ext cx="3547440" cy="80928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82080" y="1410840"/>
              <a:ext cx="321372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PARTMENT OF THE ARM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RECTOR OF ENGINEERING AND HOU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TTN:  BLDG 100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T STEWART, GA  313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48200" y="1143000"/>
            <a:ext cx="2365920" cy="1271160"/>
            <a:chOff x="4948200" y="1143000"/>
            <a:chExt cx="2365920" cy="1271160"/>
          </a:xfrm>
        </p:grpSpPr>
        <p:grpSp>
          <p:nvGrpSpPr>
            <p:cNvPr id="483" name=""/>
            <p:cNvGrpSpPr/>
            <p:nvPr/>
          </p:nvGrpSpPr>
          <p:grpSpPr>
            <a:xfrm>
              <a:off x="4983120" y="1143000"/>
              <a:ext cx="2331000" cy="1249920"/>
              <a:chOff x="4983120" y="1143000"/>
              <a:chExt cx="2331000" cy="1249920"/>
            </a:xfrm>
          </p:grpSpPr>
          <p:sp>
            <p:nvSpPr>
              <p:cNvPr id="484" name=""/>
              <p:cNvSpPr/>
              <p:nvPr/>
            </p:nvSpPr>
            <p:spPr>
              <a:xfrm>
                <a:off x="4990320" y="1143000"/>
                <a:ext cx="2323800" cy="1249920"/>
              </a:xfrm>
              <a:prstGeom prst="rect">
                <a:avLst/>
              </a:prstGeom>
              <a:solidFill>
                <a:srgbClr val="cecec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4920" rIns="124920" tIns="61200" bIns="612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983120" y="1429200"/>
                <a:ext cx="231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-61200" bIns="-61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97520" y="1918080"/>
                <a:ext cx="231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920" rIns="124920" tIns="-61200" bIns="-61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4949640" y="1149840"/>
              <a:ext cx="14659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5280" rIns="125280" tIns="61560" bIns="61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  6739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8920" y="1436400"/>
              <a:ext cx="1679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5280" rIns="125280" tIns="61560" bIns="61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LLED:  16 JUNE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8200" y="1925640"/>
              <a:ext cx="23374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5280" rIns="125280" tIns="61560" bIns="61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  DABT15-**-C-01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85720" y="1246320"/>
            <a:ext cx="252000" cy="248760"/>
            <a:chOff x="585720" y="1246320"/>
            <a:chExt cx="252000" cy="248760"/>
          </a:xfrm>
        </p:grpSpPr>
        <p:sp>
          <p:nvSpPr>
            <p:cNvPr id="491" name=""/>
            <p:cNvSpPr/>
            <p:nvPr/>
          </p:nvSpPr>
          <p:spPr>
            <a:xfrm>
              <a:off x="592920" y="1246320"/>
              <a:ext cx="24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720" y="125640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570200" y="1163520"/>
            <a:ext cx="272520" cy="247320"/>
            <a:chOff x="4570200" y="1163520"/>
            <a:chExt cx="272520" cy="247320"/>
          </a:xfrm>
        </p:grpSpPr>
        <p:sp>
          <p:nvSpPr>
            <p:cNvPr id="494" name=""/>
            <p:cNvSpPr/>
            <p:nvPr/>
          </p:nvSpPr>
          <p:spPr>
            <a:xfrm flipH="1">
              <a:off x="4570200" y="1163520"/>
              <a:ext cx="27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41640" y="1173600"/>
              <a:ext cx="0" cy="23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574880" y="2087280"/>
            <a:ext cx="272520" cy="264600"/>
            <a:chOff x="4574880" y="2087280"/>
            <a:chExt cx="272520" cy="264600"/>
          </a:xfrm>
        </p:grpSpPr>
        <p:sp>
          <p:nvSpPr>
            <p:cNvPr id="497" name=""/>
            <p:cNvSpPr/>
            <p:nvPr/>
          </p:nvSpPr>
          <p:spPr>
            <a:xfrm flipV="1">
              <a:off x="4846320" y="2087280"/>
              <a:ext cx="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574880" y="2345400"/>
              <a:ext cx="27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82480" y="2081160"/>
            <a:ext cx="255240" cy="264960"/>
            <a:chOff x="582480" y="2081160"/>
            <a:chExt cx="255240" cy="264960"/>
          </a:xfrm>
        </p:grpSpPr>
        <p:sp>
          <p:nvSpPr>
            <p:cNvPr id="500" name=""/>
            <p:cNvSpPr/>
            <p:nvPr/>
          </p:nvSpPr>
          <p:spPr>
            <a:xfrm flipV="1">
              <a:off x="582480" y="2081160"/>
              <a:ext cx="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3280" y="2344320"/>
              <a:ext cx="2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319120" y="263520"/>
            <a:ext cx="2881440" cy="29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IFICATE OF PERFORM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" y="32767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9920" y="3581280"/>
            <a:ext cx="72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-12240" y="3300480"/>
            <a:ext cx="7430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PTION OF SERVICES                     ESTIMATED COST                     PERCENTAGE OF COMPLE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9440" y="3654360"/>
            <a:ext cx="24577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NOVATE QUARTERS 500-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175200" y="3649680"/>
            <a:ext cx="1025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35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49440" y="3649680"/>
            <a:ext cx="5313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1080" y="3962520"/>
            <a:ext cx="7286400" cy="1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4114800"/>
            <a:ext cx="7315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40200" y="327672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3720" y="4319640"/>
            <a:ext cx="27626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OUNT CLAIMED FOR PERIO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3960" y="4307040"/>
            <a:ext cx="4151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MAY - 15 JUNE ** = $35,000.00 X 25%   =            $8,75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1920" y="4656240"/>
            <a:ext cx="2893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S RETAINED PERCENTAGE @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24000" y="4660920"/>
            <a:ext cx="4240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%                                                                    =         $   87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120" y="5075280"/>
            <a:ext cx="13363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 AMOUN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06720" y="5075280"/>
            <a:ext cx="871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,875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80000" y="5035680"/>
            <a:ext cx="2315880" cy="32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3360" y="5494320"/>
            <a:ext cx="27536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OUNTING CLASSIFICATIO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35800" y="5499000"/>
            <a:ext cx="4685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*7025  76-9505  192131.13-257H W91DEH*01550724/ZKJD  S090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120" y="5913360"/>
            <a:ext cx="952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ENDO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90800" y="5937120"/>
            <a:ext cx="1941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 &amp; J PAINTING INC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35 ROCKLAND AVEN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MBROKE, GA  313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69080" y="6440400"/>
            <a:ext cx="1947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 JOHNSON, FOREM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36280" y="6164280"/>
            <a:ext cx="13042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Handwriting"/>
              </a:rPr>
              <a:t>TIM JOHNS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81520" y="6168960"/>
            <a:ext cx="168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2640" y="6918480"/>
            <a:ext cx="15555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IFICATION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00280" y="6943680"/>
            <a:ext cx="49129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 CERTIFY THE SERVICES LISTED ON THIS INVOICE ARE AN ACCU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PRESENTATION OF SERVICES PERFORM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RVICES ACCEPTED 15 JUNE **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4080" y="8013600"/>
            <a:ext cx="25225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55800" y="8008920"/>
            <a:ext cx="2561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. D. P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GINEERING AND HOUS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89640" y="937260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13120" y="7756560"/>
            <a:ext cx="10573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Handwriting"/>
              </a:rPr>
              <a:t>W. D. P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54680" y="5900760"/>
            <a:ext cx="2080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65920" y="5958000"/>
            <a:ext cx="1366920" cy="74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15520" y="6094440"/>
            <a:ext cx="142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DE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JUN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8400" y="8137440"/>
            <a:ext cx="1816200" cy="573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57360" y="8116920"/>
            <a:ext cx="2466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 JUN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6691320"/>
            <a:ext cx="898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+ 14 D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9720" y="6859440"/>
            <a:ext cx="1113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 JUN  (SA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55600" y="7026120"/>
            <a:ext cx="907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JUL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3276720"/>
            <a:ext cx="288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8480" y="93726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0" y="-76320"/>
          <a:ext cx="7763040" cy="982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7763040" cy="982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3712680" y="9601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13840" y="373392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8,7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31480" y="510552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8,7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41840" y="5257800"/>
            <a:ext cx="502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46240" y="5549760"/>
            <a:ext cx="1388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 RETAINER F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90600" y="5257800"/>
            <a:ext cx="56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98000" y="58546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7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93680" y="59436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8480" y="95122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18920" y="380880"/>
            <a:ext cx="39880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QUIREMENTS CONTRACT/DELIVERY 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2640" y="884160"/>
            <a:ext cx="5889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40680" y="1638360"/>
            <a:ext cx="4691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)  SF 33, Solicitation &amp; Award (Requirements Contrac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)  DD 1155, Order for Supplies or Services (Delivery Orde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)  DD Forms 250, Material Inspection and Receiving Repor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)  Vendor’s Invo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3000" y="3230640"/>
            <a:ext cx="62557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QUIREMENT:  You must prepare the payment voucher based on the sup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cuments listed above, then update the Bills Register Car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77120" y="937260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8480" y="944892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-1440" y="0"/>
          <a:ext cx="7765920" cy="982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982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5237280" y="548640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05120" y="7010280"/>
            <a:ext cx="128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GURR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24160" y="883908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89000" y="9524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7080" y="1149480"/>
            <a:ext cx="1662120" cy="59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80240" y="120024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8480" y="95122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198800" y="465120"/>
            <a:ext cx="538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                                                   PAGE 2 OF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1920" y="800280"/>
            <a:ext cx="5944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5800" y="1135080"/>
            <a:ext cx="1537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3800" y="1554120"/>
            <a:ext cx="7160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95440" y="1347840"/>
            <a:ext cx="58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0200" y="1760400"/>
            <a:ext cx="749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480" y="1889280"/>
            <a:ext cx="5103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air parts for government vehicles located on Fort Stewart, GA.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accordance with the specifications &amp; provisions contained here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the period 1 Jun ** - 31 May **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71720" y="2643120"/>
            <a:ext cx="72064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    Repair parts for Chrysler Products.  4 door sedan, 19**.                                   $25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lacement parts to include:  Tires, engine replacement part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haust system parts, body parts, axles, tie rods, electronic rep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pplies, brake replacement supplies, heating and coo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art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3880" y="3817800"/>
            <a:ext cx="72248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2    Repair parts for Ford motor products.  Truck, van (panel &amp; cargo)                    $25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**.  Replacement parts to include:  Tires, engine, replac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rts, exhaust system parts, body parts, axles, tie rods, electron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pair supplies, brake replacement supplies, heating and cool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part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5960" y="4991040"/>
            <a:ext cx="528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1:  Bidder agrees to obtain parts, when not available within 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sonable time period.  Ordering parts will not increase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acted pric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6320" y="5829480"/>
            <a:ext cx="57618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2:  Pricing:  The government will obtain parts at the price offered to 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customers or lowe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5960" y="6499080"/>
            <a:ext cx="58258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3:  Shipping:  Freight expenses will be included in the offered price 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.  Free on board to destinat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35280" y="7086600"/>
            <a:ext cx="302796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to address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/91st Mechanized Infantry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TN:  T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3d Medical Support Battal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TN:  USAR Reserve Oper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62800" y="954072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12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198800" y="465120"/>
            <a:ext cx="53870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                                                   PAGE 3 OF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1920" y="800280"/>
            <a:ext cx="5944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800" y="1135080"/>
            <a:ext cx="1537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3800" y="1554120"/>
            <a:ext cx="7160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200" y="1760400"/>
            <a:ext cx="749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5440" y="1347840"/>
            <a:ext cx="58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8680" y="1973160"/>
            <a:ext cx="473760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4:  Individual Delivery Orders will be issued when par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supplies have been order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0120" y="2727360"/>
            <a:ext cx="460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5:  Inspection and Acceptance:  The parts or suppl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ll be accepted in proper condition and deem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ptable by the receiving activity.  The con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parts or supplies is the responsibility of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endor until acceptance is acknowledged by 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orized government agen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7600" y="4248000"/>
            <a:ext cx="418896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 6:  The vendor’s invoice will contain at least th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llowing item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Vendor’s date of invoic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Contract numbe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Description of supplies or servic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Extension information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  Term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10240" y="933444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8480" y="95122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0" y="0"/>
          <a:ext cx="776304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3713400" y="1447920"/>
            <a:ext cx="749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0120" y="754380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36720" y="9601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9680" y="6559560"/>
            <a:ext cx="1663560" cy="90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05200" y="674064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12000" y="49528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,07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9400" y="524520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2,052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40760" y="7086600"/>
            <a:ext cx="1388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E DATE:  6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1560" y="7620120"/>
            <a:ext cx="49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4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81760" y="7620120"/>
            <a:ext cx="5792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ESS 2%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23640" y="830592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128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57000" y="8763120"/>
            <a:ext cx="1545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 CORY, LTC, FC, 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19520" y="8978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70240" y="891540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88840" y="8381880"/>
            <a:ext cx="143280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61160" y="9740880"/>
            <a:ext cx="64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8480" y="96012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657520" y="297000"/>
            <a:ext cx="214092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1920" y="631800"/>
            <a:ext cx="5944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240" y="966960"/>
            <a:ext cx="1948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0825/0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3800" y="1386000"/>
            <a:ext cx="7160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95440" y="1181160"/>
            <a:ext cx="58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200" y="1592280"/>
            <a:ext cx="749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66200" y="1805040"/>
            <a:ext cx="4298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 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Delivery 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1/91ST MECHANIZED INFANTRY DIVI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TN:  T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4160" y="2979720"/>
            <a:ext cx="69962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              Tires, Uniroyal, 15”, Sedan                      25             EA         45.90      $1,147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2               Radiator, Serial #512900                        10             EA         52.15      $   521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3               Tires, Uniroyal, 16” Cargo Van               10             EA         44.95      $   449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29560" y="402264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34880" y="4152960"/>
            <a:ext cx="1738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TAL:     $2,118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27800" y="4384800"/>
            <a:ext cx="5405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ITEMS ARE CHARGEABLE TO FUND CI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*2020  76-9505  111011.00-26EB  W91TMP*1560825/A111  S0907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96760" y="5241960"/>
            <a:ext cx="38782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23D MEDICAL SUPPORT BATTAL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AR RESERVE OPER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4160" y="6080040"/>
            <a:ext cx="69962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              Tires, Uniroyal, 15”, Sedan                      25             EA         45.90      $1,147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2               Tires, Uniroyal, 16”  Cargo Van              10             EA         44.95       $  449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3               Exhaust Pipes, Serial #52347                20             EA         24.86      $   497.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48920" y="7253280"/>
            <a:ext cx="1738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TAL:     $2,094.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29560" y="712476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27800" y="7821720"/>
            <a:ext cx="54054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ITEMS ARE CHARGEABLE TO FUND CI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*2080  76-9601  512914.00-26EB  W91TMP*1560825/A526  S0907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67280" y="8763120"/>
            <a:ext cx="35308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 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Deliver to FOB point by:  15 June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77120" y="9448920"/>
            <a:ext cx="357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8480" y="944892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5008680" y="710892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1880" y="7074000"/>
            <a:ext cx="10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Handwriting"/>
              </a:rPr>
              <a:t>TOMAS S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00240" y="9524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92480" y="5797440"/>
            <a:ext cx="167940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59080" y="5883120"/>
            <a:ext cx="1958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8480" y="95122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-185760" y="-334800"/>
          <a:ext cx="8134200" cy="1052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5760" y="-334800"/>
                    <a:ext cx="8134200" cy="1052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5979240" y="7068960"/>
            <a:ext cx="1124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Handwriting"/>
              </a:rPr>
              <a:t>DAVID MOR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08760" y="710424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30400" y="9601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63880" y="5492880"/>
            <a:ext cx="1995480" cy="1130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19400" y="575928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8480" y="966456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57800" y="555480"/>
            <a:ext cx="50119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OUNTS PAYABLE BRAN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ACCOUNTS PAYABLE  VOUCHERS FOR PAY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5560" y="1309680"/>
            <a:ext cx="63471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:  Given contractual documents, you must prepare vouchers for pay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update the Bills Register Card based on the documentation provid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000" y="1979640"/>
            <a:ext cx="22323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INFORMATIO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37280" y="2316240"/>
            <a:ext cx="4051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BURSING OFFICER:  WALTER CORY, LTC, F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3920" y="2651040"/>
            <a:ext cx="343944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ID BY BLOCK:  23d Finance Battal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.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6040" y="3656160"/>
            <a:ext cx="229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’S DATE:  28 June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00080" y="4075200"/>
            <a:ext cx="28083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EST PENALTY RATE:  8.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3560" y="4411800"/>
            <a:ext cx="44269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EST ACCOUNTING CLASSIFICATIO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*2020  76-9505  117096.ZO-43AJ  SDN#/APC  S0907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5486400"/>
            <a:ext cx="59166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845640" bIns="-845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17720" y="5791320"/>
            <a:ext cx="591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60240" bIns="-336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6172200"/>
            <a:ext cx="592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60240" bIns="-336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36800" y="6553080"/>
            <a:ext cx="589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60240" bIns="-336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6160" y="6927840"/>
            <a:ext cx="588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53760" bIns="-335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920" y="7315200"/>
            <a:ext cx="591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60240" bIns="-336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791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150560" bIns="-115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5791320"/>
            <a:ext cx="324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455480" bIns="-145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112200" y="2209680"/>
            <a:ext cx="14258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ULY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673640" y="4440240"/>
            <a:ext cx="15392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VE A GREAT 4TH 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5409720" y="2583000"/>
            <a:ext cx="13792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4550040" y="2583000"/>
            <a:ext cx="138200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3684960" y="2583000"/>
            <a:ext cx="13783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2813760" y="2583000"/>
            <a:ext cx="138384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005200" y="2583000"/>
            <a:ext cx="13783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136880" y="2583000"/>
            <a:ext cx="13783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401040" y="2583000"/>
            <a:ext cx="13792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539172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5399640" y="331776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541044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454212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4536000" y="331776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454680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66444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3664080" y="331776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66408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80044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00376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14012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382680" y="36799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82680" y="331776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40120" y="331776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003760" y="331776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800440" y="331776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82132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99116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4012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390960" y="2963880"/>
            <a:ext cx="13774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7696080"/>
            <a:ext cx="589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3360240" bIns="-336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541044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5410440" y="445284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454680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546800" y="445284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66408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664080" y="445284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280044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00376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140120" y="405288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82680" y="4054320"/>
            <a:ext cx="13865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1080" rIns="6841080" tIns="3360600" bIns="336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7840" y="9380520"/>
            <a:ext cx="280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960" y="8265960"/>
            <a:ext cx="64659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E TO INSTRUCTOR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SUE EACH STUDENT A WORKBOOK, SUPPLE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IS NOT TO BE WRITTEN  IN  AND  PAYMENT DUE DATE SHEETS.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848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5791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150560" bIns="-115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7913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150560" bIns="-115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0880" y="5791320"/>
            <a:ext cx="324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455480" bIns="-145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791320"/>
            <a:ext cx="324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720" rIns="6840720" tIns="-1455480" bIns="-145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28560" y="324000"/>
            <a:ext cx="4173480" cy="300960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41120" y="28116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24440" y="522360"/>
            <a:ext cx="227340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924440" y="809640"/>
            <a:ext cx="226224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938840" y="1187280"/>
            <a:ext cx="224928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30920" y="1565280"/>
            <a:ext cx="226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93480" y="557280"/>
            <a:ext cx="1481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:  3476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50000" y="820800"/>
            <a:ext cx="844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33360" y="9381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JUN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58000" y="1319040"/>
            <a:ext cx="1677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:  2/20, Net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03200" y="1571760"/>
            <a:ext cx="884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31920" y="1571760"/>
            <a:ext cx="142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O. #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54760" y="2103480"/>
            <a:ext cx="197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8640" y="444600"/>
            <a:ext cx="2565000" cy="72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ME PARTS AND SUPP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11 MAI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XTON, GA  304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79080" y="1476360"/>
            <a:ext cx="230292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1480" y="17287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406760" y="2128680"/>
            <a:ext cx="298440" cy="317520"/>
            <a:chOff x="4406760" y="2128680"/>
            <a:chExt cx="298440" cy="317520"/>
          </a:xfrm>
        </p:grpSpPr>
        <p:sp>
          <p:nvSpPr>
            <p:cNvPr id="665" name=""/>
            <p:cNvSpPr/>
            <p:nvPr/>
          </p:nvSpPr>
          <p:spPr>
            <a:xfrm flipV="1">
              <a:off x="470520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06760" y="2436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36560" y="2128680"/>
            <a:ext cx="317520" cy="317520"/>
            <a:chOff x="736560" y="2128680"/>
            <a:chExt cx="317520" cy="317520"/>
          </a:xfrm>
        </p:grpSpPr>
        <p:sp>
          <p:nvSpPr>
            <p:cNvPr id="668" name=""/>
            <p:cNvSpPr/>
            <p:nvPr/>
          </p:nvSpPr>
          <p:spPr>
            <a:xfrm flipV="1">
              <a:off x="74304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36560" y="24368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406760" y="1384200"/>
            <a:ext cx="298440" cy="301680"/>
            <a:chOff x="4406760" y="1384200"/>
            <a:chExt cx="298440" cy="301680"/>
          </a:xfrm>
        </p:grpSpPr>
        <p:sp>
          <p:nvSpPr>
            <p:cNvPr id="671" name=""/>
            <p:cNvSpPr/>
            <p:nvPr/>
          </p:nvSpPr>
          <p:spPr>
            <a:xfrm>
              <a:off x="4705200" y="1393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06760" y="1384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277640" y="2698920"/>
            <a:ext cx="3194280" cy="453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D MED SPT BN &amp; 1/91ST MECH INF 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1840" y="2738520"/>
            <a:ext cx="538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596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5960" y="4243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4280" y="3932280"/>
            <a:ext cx="656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17200" y="4361040"/>
            <a:ext cx="2804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27320" y="4361040"/>
            <a:ext cx="169020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res, Uniroyal, 15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57600" y="436104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48080" y="4361040"/>
            <a:ext cx="97560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,3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28720" y="478944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28720" y="52149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8720" y="5654520"/>
            <a:ext cx="249120" cy="287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28720" y="61023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44600" y="47894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44600" y="52052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44600" y="56260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44600" y="60832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59240" y="43718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59240" y="478800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59240" y="52052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59240" y="56260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59240" y="60832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60120" y="43959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8480" y="4788000"/>
            <a:ext cx="415800" cy="280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8480" y="520524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78480" y="56260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78480" y="60832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72120" y="4788000"/>
            <a:ext cx="86040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72120" y="5205240"/>
            <a:ext cx="85068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72120" y="56260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72120" y="60832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75440" y="478800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75440" y="5205240"/>
            <a:ext cx="94932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175440" y="56260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5440" y="60832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3892680"/>
            <a:ext cx="0" cy="26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421160" y="3892680"/>
            <a:ext cx="1440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64120" y="3890880"/>
            <a:ext cx="3240" cy="261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95880" y="3892680"/>
            <a:ext cx="0" cy="26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43320" y="3892680"/>
            <a:ext cx="468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8560" y="6523200"/>
            <a:ext cx="651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25840" y="6635880"/>
            <a:ext cx="16639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9120" y="6635880"/>
            <a:ext cx="1054080" cy="244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54640" y="6618240"/>
            <a:ext cx="123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48080" y="6618240"/>
            <a:ext cx="97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218.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65320" y="9372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36560" y="1387440"/>
            <a:ext cx="317520" cy="295200"/>
            <a:chOff x="736560" y="1387440"/>
            <a:chExt cx="317520" cy="295200"/>
          </a:xfrm>
        </p:grpSpPr>
        <p:sp>
          <p:nvSpPr>
            <p:cNvPr id="720" name=""/>
            <p:cNvSpPr/>
            <p:nvPr/>
          </p:nvSpPr>
          <p:spPr>
            <a:xfrm>
              <a:off x="743040" y="1390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36560" y="13874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817200" y="48182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10760" y="4818240"/>
            <a:ext cx="1649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ator, #512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60120" y="48182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57720" y="4818240"/>
            <a:ext cx="82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5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147360" y="4818240"/>
            <a:ext cx="97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 521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57600" y="481824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57600" y="520524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7600" y="565632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17200" y="52052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308960" y="5205240"/>
            <a:ext cx="201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haust Pipes, #523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660120" y="52052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57720" y="5205240"/>
            <a:ext cx="82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24.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47360" y="5205240"/>
            <a:ext cx="977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 497.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47360" y="5656320"/>
            <a:ext cx="977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 9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57720" y="5656320"/>
            <a:ext cx="82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4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60120" y="56563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10040" y="5656320"/>
            <a:ext cx="169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res, Uniroyal, 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17200" y="5656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2600" y="4361040"/>
            <a:ext cx="878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4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92880" y="2368440"/>
            <a:ext cx="1815840" cy="10540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22040" y="2549520"/>
            <a:ext cx="177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JUN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264280" y="4413240"/>
            <a:ext cx="7491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178680" y="4413240"/>
            <a:ext cx="9777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64280" y="5708160"/>
            <a:ext cx="7491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54640" y="5632560"/>
            <a:ext cx="82548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178680" y="6622560"/>
            <a:ext cx="97776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56080" y="433548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09920" y="4194000"/>
            <a:ext cx="85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.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98480" y="4194000"/>
            <a:ext cx="102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2,29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82560" y="5451480"/>
            <a:ext cx="87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 44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64800" y="5438880"/>
            <a:ext cx="82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89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98840" y="6912000"/>
            <a:ext cx="97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212.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8480" y="93726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17640" y="722160"/>
            <a:ext cx="2351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XED  PRICE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4320" y="1309680"/>
            <a:ext cx="6081840" cy="26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 SF 33, Contra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 DD Form 250, Receiving Repor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 Vendors’ Invo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QUIREMENT:  You must prepare the payment vouchers for the fixed pri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acts based on the supporting documents listed above, then, update the Bil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ister Car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2160" y="9464760"/>
            <a:ext cx="280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848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687560" y="7134120"/>
            <a:ext cx="106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Handwriting"/>
              </a:rPr>
              <a:t>JOH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7236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45480" y="897876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6760" y="9601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2160" y="1149480"/>
            <a:ext cx="1892160" cy="59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8200" y="120024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MAY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8120" y="9601200"/>
            <a:ext cx="4998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2560" y="716040"/>
            <a:ext cx="20494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0120" y="716040"/>
            <a:ext cx="10436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5320" y="1135080"/>
            <a:ext cx="5414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rth Star Electronics Inc., 1050 East Street, Richmond Hill, GA  313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4640" y="1554120"/>
            <a:ext cx="15372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71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200" y="2141640"/>
            <a:ext cx="67035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NO.            SUPPLIES/SERVICES              QTY         UNIT       PRICE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80520" y="1973160"/>
            <a:ext cx="586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2354400"/>
            <a:ext cx="715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0600" y="2643120"/>
            <a:ext cx="6584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001            Computers, IBM CPU 486DX           5              ea       2,000.00   $10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1440" y="9374040"/>
            <a:ext cx="280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480" y="944892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014800" y="7108920"/>
            <a:ext cx="60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 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28840" y="7683480"/>
            <a:ext cx="70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, P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20920" y="7074000"/>
            <a:ext cx="94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PAUL ELLI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66760" y="9601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7560" y="5568840"/>
            <a:ext cx="1812960" cy="674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6880" y="5619600"/>
            <a:ext cx="2108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480" y="960120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55680"/>
            <a:ext cx="4619520" cy="33112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63600" y="309600"/>
            <a:ext cx="103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60880" y="574560"/>
            <a:ext cx="2406600" cy="15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0" rIns="172800" tIns="84960" bIns="84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060880" y="888480"/>
            <a:ext cx="239400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65880" bIns="-65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3716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84960" bIns="-84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67360" y="1712880"/>
            <a:ext cx="2394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2800" rIns="172800" tIns="-81720" bIns="-81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34600" y="61272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:  2156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88600" y="838080"/>
            <a:ext cx="1060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19840" y="10288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 JUNE *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08480" y="14446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:  2/10, N/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38920" y="1676520"/>
            <a:ext cx="1105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2360" y="18604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3160" rIns="173160" tIns="84960" bIns="84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FI01-**-C-71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0280" y="231444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2880" y="450720"/>
            <a:ext cx="2942640" cy="82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TH STAR 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50 EAST ST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MOND HILL, GA  313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34560" y="1623960"/>
            <a:ext cx="2488320" cy="891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6320" y="1901880"/>
            <a:ext cx="65052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76600" y="2341080"/>
            <a:ext cx="338040" cy="348840"/>
            <a:chOff x="4476600" y="2341080"/>
            <a:chExt cx="338040" cy="348840"/>
          </a:xfrm>
        </p:grpSpPr>
        <p:sp>
          <p:nvSpPr>
            <p:cNvPr id="170" name=""/>
            <p:cNvSpPr/>
            <p:nvPr/>
          </p:nvSpPr>
          <p:spPr>
            <a:xfrm flipV="1">
              <a:off x="4814640" y="2341080"/>
              <a:ext cx="0" cy="3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76600" y="268020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4040" y="2341080"/>
            <a:ext cx="360000" cy="348840"/>
            <a:chOff x="554040" y="2341080"/>
            <a:chExt cx="360000" cy="348840"/>
          </a:xfrm>
        </p:grpSpPr>
        <p:sp>
          <p:nvSpPr>
            <p:cNvPr id="173" name=""/>
            <p:cNvSpPr/>
            <p:nvPr/>
          </p:nvSpPr>
          <p:spPr>
            <a:xfrm flipV="1">
              <a:off x="561240" y="2341080"/>
              <a:ext cx="0" cy="3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54040" y="268020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476600" y="1522440"/>
            <a:ext cx="338040" cy="331560"/>
            <a:chOff x="4476600" y="1522440"/>
            <a:chExt cx="338040" cy="331560"/>
          </a:xfrm>
        </p:grpSpPr>
        <p:sp>
          <p:nvSpPr>
            <p:cNvPr id="176" name=""/>
            <p:cNvSpPr/>
            <p:nvPr/>
          </p:nvSpPr>
          <p:spPr>
            <a:xfrm>
              <a:off x="4814640" y="1532880"/>
              <a:ext cx="0" cy="32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6600" y="152244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38160" y="2800440"/>
            <a:ext cx="3530880" cy="6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RECTOR, INFORMATION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DG 609, ATTN: MR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240" y="2948040"/>
            <a:ext cx="586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4275000"/>
            <a:ext cx="741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667400"/>
            <a:ext cx="741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080" y="4325760"/>
            <a:ext cx="743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240" y="4797360"/>
            <a:ext cx="31500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4840" y="4797360"/>
            <a:ext cx="215316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s, IBM 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57320" y="4797360"/>
            <a:ext cx="47376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1600" y="4797360"/>
            <a:ext cx="99180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00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54080" y="4797360"/>
            <a:ext cx="1104480" cy="343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0840" y="5268960"/>
            <a:ext cx="282600" cy="3157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840" y="5737320"/>
            <a:ext cx="282600" cy="3157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0840" y="6219720"/>
            <a:ext cx="282600" cy="316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0840" y="6711840"/>
            <a:ext cx="282600" cy="3175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5640" y="5268960"/>
            <a:ext cx="2144520" cy="3254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25640" y="5726160"/>
            <a:ext cx="2144520" cy="32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25640" y="6188040"/>
            <a:ext cx="2144520" cy="327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25640" y="6691320"/>
            <a:ext cx="2144520" cy="32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480852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02000" y="5267160"/>
            <a:ext cx="93492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02000" y="5726160"/>
            <a:ext cx="93492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02000" y="618804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02000" y="6691320"/>
            <a:ext cx="93492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9640" y="4803840"/>
            <a:ext cx="315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70280" y="5267160"/>
            <a:ext cx="471600" cy="308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70280" y="572616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70280" y="618804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70280" y="6691320"/>
            <a:ext cx="471600" cy="309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43480" y="5267160"/>
            <a:ext cx="97488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3480" y="5726160"/>
            <a:ext cx="96372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43480" y="6188040"/>
            <a:ext cx="95724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43480" y="6691320"/>
            <a:ext cx="957240" cy="3319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0000" y="5267160"/>
            <a:ext cx="107640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0000" y="5726160"/>
            <a:ext cx="1076400" cy="320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80000" y="6188040"/>
            <a:ext cx="107640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80000" y="6691320"/>
            <a:ext cx="1076400" cy="3222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3640" y="4281480"/>
            <a:ext cx="0" cy="287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92800" y="4281480"/>
            <a:ext cx="15840" cy="286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1440" y="4280040"/>
            <a:ext cx="2880" cy="28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1440" y="4281480"/>
            <a:ext cx="0" cy="286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0240" y="4281480"/>
            <a:ext cx="6480" cy="286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680" y="7175520"/>
            <a:ext cx="738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480" y="7299360"/>
            <a:ext cx="188568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94320" y="7299360"/>
            <a:ext cx="1193760" cy="268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3840" y="7280280"/>
            <a:ext cx="1395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54080" y="7280280"/>
            <a:ext cx="1104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62800" y="9458280"/>
            <a:ext cx="280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54040" y="1525680"/>
            <a:ext cx="360000" cy="324720"/>
            <a:chOff x="554040" y="1525680"/>
            <a:chExt cx="360000" cy="324720"/>
          </a:xfrm>
        </p:grpSpPr>
        <p:sp>
          <p:nvSpPr>
            <p:cNvPr id="226" name=""/>
            <p:cNvSpPr/>
            <p:nvPr/>
          </p:nvSpPr>
          <p:spPr>
            <a:xfrm>
              <a:off x="561240" y="152892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54040" y="1525680"/>
              <a:ext cx="36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533920" y="2689200"/>
            <a:ext cx="1886040" cy="824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60000" y="2803680"/>
            <a:ext cx="1660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 JUN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8480" y="9524880"/>
            <a:ext cx="658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52280"/>
          <a:ext cx="7763040" cy="967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7763040" cy="967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789000" y="9524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31480" y="37972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8760" y="524520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8240" y="5562720"/>
            <a:ext cx="1417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 2% DIS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78080" y="5562720"/>
            <a:ext cx="49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20320" y="594360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3,92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7560" y="5854680"/>
            <a:ext cx="41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760" y="9524880"/>
            <a:ext cx="6228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3 AK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4T09:40:18Z</dcterms:created>
  <dc:creator>Soldier Support Institute</dc:creator>
  <dc:description/>
  <dc:language>en-US</dc:language>
  <cp:lastModifiedBy>Administrator</cp:lastModifiedBy>
  <cp:lastPrinted>2000-08-08T17:16:49Z</cp:lastPrinted>
  <dcterms:modified xsi:type="dcterms:W3CDTF">2004-09-16T18:49:28Z</dcterms:modified>
  <cp:revision>15</cp:revision>
  <dc:subject/>
  <dc:title>BLANK SF 1034</dc:title>
</cp:coreProperties>
</file>